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2047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704-5C27-4BC1-8A46-93CAAF37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B6B-8A23-4D77-B1E9-89604E58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880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1D4-1F90-48F5-8908-CCAA494A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360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8080" y="160020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360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8080" y="3964320"/>
            <a:ext cx="353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DC6-B405-4222-AF06-47DF9026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A8B-9164-4A26-AA79-F229D994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026-A887-4904-92C8-A3F28026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606-FC8C-4FDF-91C9-891A8C7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34B-6493-4134-A6A1-BE5B235B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85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0A4-83C4-4155-A6F4-C7E0F9F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95F-37B1-441A-8C33-5997298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0" y="396432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DA5-C125-4648-8362-8263827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8800" y="1600200"/>
            <a:ext cx="5360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85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DFE-9650-417D-B3E6-7836414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8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8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70240" y="6356520"/>
            <a:ext cx="386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4692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7088-7D3F-4CE0-9ABF-8FE278B40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brS5DHh46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640" y="5229360"/>
            <a:ext cx="545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Arial"/>
              </a:rPr>
              <a:t>Запись собрания размещ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280" y="5775120"/>
            <a:ext cx="11377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Tu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нале КИУ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tbrS5DHh46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айт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иу.р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аннер на главной страниц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98720" y="0"/>
            <a:ext cx="79912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819"/>
          <a:stretch/>
        </p:blipFill>
        <p:spPr>
          <a:xfrm>
            <a:off x="2357280" y="141120"/>
            <a:ext cx="72010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0" y="2895480"/>
            <a:ext cx="12204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20920" y="260280"/>
            <a:ext cx="2160720" cy="503280"/>
          </a:xfrm>
          <a:prstGeom prst="rect">
            <a:avLst/>
          </a:prstGeom>
          <a:solidFill>
            <a:srgbClr val="014795"/>
          </a:solidFill>
          <a:ln w="9360">
            <a:solidFill>
              <a:srgbClr val="0147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503440" y="1182600"/>
            <a:ext cx="950292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Стресс у ребенка: как распознать и чем помоч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эффективных методиках преодоления конфликтных и кризисных ситуаций в жизни детей и подростк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Выбираем профессию или будуще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 роли семьи в формировании жизненных целей и профессиональном самоопределении подростк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Можно ли на экзамены идти с удовольствие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эффективных методиках подготовки детей и подростков к аттестации знан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Внимание! Особенный ребенок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4795"/>
                </a:solidFill>
                <a:latin typeface="Arial"/>
              </a:rPr>
              <a:t>(Об особенностях воспитания и обучения детей с ограниченными возможностями здоровья)</a:t>
            </a:r>
            <a:r>
              <a:rPr b="1" lang="ru-RU" sz="2000" spc="-1" strike="noStrike">
                <a:solidFill>
                  <a:srgbClr val="01479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479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381640" y="260280"/>
            <a:ext cx="4373640" cy="50472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НЕТ-СОБР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4360" y="1341360"/>
            <a:ext cx="1800360" cy="86364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6.02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14360" y="2708280"/>
            <a:ext cx="1800360" cy="86508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.03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14360" y="4078440"/>
            <a:ext cx="1800360" cy="86328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.04.20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14360" y="5445000"/>
            <a:ext cx="1800360" cy="863640"/>
          </a:xfrm>
          <a:prstGeom prst="rect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8.05.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5:20:05Z</dcterms:created>
  <dc:creator>timirjasova</dc:creator>
  <dc:description/>
  <dc:language>en-US</dc:language>
  <cp:lastModifiedBy>gabidullin</cp:lastModifiedBy>
  <dcterms:modified xsi:type="dcterms:W3CDTF">2018-01-25T07:15:08Z</dcterms:modified>
  <cp:revision>31</cp:revision>
  <dc:subject/>
  <dc:title>Вопросы принимаются в      WhatsApp:  8 987-270-8787</dc:title>
</cp:coreProperties>
</file>